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0422-4318-45C1-8A12-0115E835B7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D54A-3338-43D3-AEC8-5DA533ABA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F5A1-4420-4C97-8801-8C9E11693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lides below are from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Step 8: Follow-up care of the survivo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from the WHO/UNHCR man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6555-372C-43D3-A48F-8CDE17E00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6501-EE19-4962-8E8F-D517AD9AF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iterate importance of giving full treatment course of PEP at the first visit if there is any question about the survivor’s ability to ret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7F55-CE49-4DB3-AD3C-9D7BDF523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WHO/ILO guidelines recommend follow up VCT at 6 months and condoms should be used until a negative HIV test at 6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3205-D5E5-4186-9D43-D13076E83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757D-2F1F-40AF-818C-246FDD141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cting a survivor from further harm is needed because rarely, very distressed people can make decisions that may put them at further ris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113D-0FCB-41BB-A7A6-6CAA68C20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0AC-A028-48D2-85CD-E63C45A2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FE9-BFDD-49CC-85BE-691EA6B2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64950-9A98-47EC-A778-9F98331C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4E02F-A902-422F-9122-27C078D5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653EF-46B8-4B47-926E-4B5967C3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5C239-C095-4A3B-95F8-3998D8A5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1AA0C-B3B8-4D28-B6C1-5BB8BBEF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5844D-5CB0-4735-9EB5-699E2E0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FAB95-D02E-4738-B58A-6689288E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92E24-2BDA-4968-8E04-19E903C5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5B453-9E9A-401D-8A25-C3975BF0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9388B-3863-4873-A2AB-C9F0E440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3AD-7BDD-43AE-AE98-59EC91EA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6BFE2-306C-4AC1-BCC5-D98D6363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4B5AF-9104-402A-ACF2-284C6AF5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582A3-2228-45E7-A601-FBD185E9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250B8-69E9-4FE3-8147-C66EBE13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FAF67-C996-482F-986F-D7F467E3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E9951-2807-48E8-AEC1-798D3D3D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F24B2-8921-4384-8CEC-9697EB38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178E8-FDF2-4805-ADB1-D07D930A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40534-D3E2-4854-B63C-FC562770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E615E-54EB-4CA2-BD04-9138BA07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39D-DC63-48A5-BF9E-BC80E641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15D39-46FA-45B7-AB9F-55103076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B3469-499E-468A-931F-7839F86C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6380E-E61A-4F7B-9529-ED6BCB92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161E4-9E91-4405-B412-1272D75D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A53F7-B50C-4677-BCB6-49AD4E9F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B479E-E40C-4A45-AE1D-BDE9C302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66896-135D-4DC3-8F3B-415B432E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D7D8B-00F5-49CF-B578-64F7344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24FF-62C2-42D0-B759-9772588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CE3A9-C3B4-436D-8B5E-1EADE0E5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22743-EE88-4C8E-B629-FB04E084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2A23C-CA7E-492D-8ACB-97E22463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EC7A2-95D5-4F2B-AEE7-CEF20AFC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69C0D-CC2F-469B-B342-34FE7AA4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12A69-5076-48EB-B1EA-486FE445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7447C-D230-445B-9CC3-3196BD08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FFDEE-7CA1-4F4C-943D-4E4669D2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F762E-1ACD-4360-AE6E-612BDEF8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BC3E7-8152-42EC-BAFE-C24CEC51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68928-D71E-4808-AF7C-DEC95DE1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54EB3-AECB-4699-A87B-DD459CC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F4BB1-F5F0-43B0-8974-78C40F65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5441F-FC4D-4139-8AE4-00E04CF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1AEF2-6691-4439-9CA9-3BA4A3DB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C40E0-9A5A-4F58-B8B1-39943730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D08FE-F712-43B4-BC3E-94D621C2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7979D-B76F-482B-946D-C8FF01AB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0ADB8-FFFF-4BDA-B0AB-5C6764F0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12744-80B6-4B4D-89A1-CF599651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659F2-BF16-436F-B7DF-45CA0C73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46D9D-C4A8-4D04-9696-BBB3ED51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273A7-EA5C-4958-B784-0472ED1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1C6E8-D386-4DFA-9A39-E49ABB5C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5D694-D5A2-469D-90DA-D51BE880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4267D-1E75-435C-8E94-F9775F26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8B220-5099-4AAA-8721-CC029B8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EC65F-9F95-48DE-9718-3ABDC7AD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5C34C-50B2-441F-A3DB-B36BE1C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3E39D-783A-4819-A5D4-7FA6B28F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65181-5F17-4F7A-BF76-5028F12E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0CD0D-8623-4E47-BDD1-F13A9EBD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37C9B-2050-4934-A463-C188D67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589DA-11DA-4DEB-8E7C-7A3E0076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760CD-1BF4-4EB4-89F6-7FFCF71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D96FD-3BA9-4D57-B46F-C09A05C2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98B98-A7FB-4002-B266-084D91CE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11F82-79A4-4D85-A9DA-DBB048AD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52D80-6445-4BFB-BB2B-EBEE1040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E67C3-790F-43F2-846F-36F6039E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938E7-9EC6-4FD3-88DD-40F6DA3A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57A3D-77D1-4CEB-9BFD-259540FA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96135-DBAB-4779-9AEF-2C8829DD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9248B-9EE5-47E5-B522-0C944820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DC3EA-40F9-4091-8750-712683B3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83C2C-5DD6-4724-B82D-41E8B137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B781D-5260-48F1-829A-841AA283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55B83-4EF0-496A-812D-AF4CAF76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D8AAB-2EED-4E25-B72C-488AF4B1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6E534-0D75-4EFB-8977-6FFAA0CB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D3AC9-3ECD-4BFD-AE66-ABA09DBC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B1136-EC76-45AE-8060-04BD7A3B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E1E14-1C4A-43E0-A27D-25C6274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F3929-9F2A-4C23-A953-CEF380E5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C3A13-D579-4902-822C-A5AF7A44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2A9CC-08CB-4725-A6EC-5DB6BA1E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2D4DD-FDCD-4F03-ADC7-61B06ADD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D137E-9AF1-4D5C-A304-E43061ED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C838C-6604-413B-A99C-059C5F61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91F80-5B69-4792-AF78-7B8733C5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D0D0F-9325-4A02-ADC5-67B46854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9E1A7-6799-4159-9E9F-5A13A4E4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252DD-353D-4AC8-A087-2281AA0C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C269C-E232-4CA9-8B52-EDA50987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46639-552E-4F24-88B5-A3751A3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BBEA6-0BC0-4BDC-BEE1-83B32E0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48C7C9-4EC5-4589-8DC1-F17FDAB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6CFDC-3FBE-4F02-9ED4-2144C73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28DDE-F776-4AF1-B716-CFDFE58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7890B-A0FA-4E12-A245-2895FCEC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57546-98BD-4149-9085-B0C330D8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ECFA3-FDC1-4EC0-9C68-3174D041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8BF09-FADA-4C91-95B5-8895BD59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65FC4-6FCC-4CC3-B5E6-4EBA83B2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2D4F7-79D6-46ED-9A4C-7EA79B2B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B0E2E-968E-4E91-A3CF-EF200C61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10526-1729-460A-9705-41682A4A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5F325-6E95-4868-97FB-0682A3E4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057-5502-4502-AD08-EC7FF2D6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58DEC-A635-4C1B-8B30-861D2DD3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862A2-A511-453D-8FBB-CA3CD72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A96F9-570C-4C42-8A75-DB8BA90A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6A895-B8C9-471E-B78C-915CF5CA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AB041-58D1-44C1-84C1-91A0E8D3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CC673-B2D2-4738-8A2D-AF93DDC5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2ABA6-053D-4603-ABCE-7123005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346FE-9873-4E1A-A1B5-A7341FE7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B19B8-FCF7-4EA7-86FC-73700364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AB667-CF18-4A45-861D-78B89BD4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A6FD-D456-4AD6-A478-93D9F1C2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FDE5-1574-4789-8AAC-8D2BD400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62FC-A7F7-4B15-BB6B-BBF47937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3286-ED10-4C41-BD1A-450711F0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8B60-9645-4A02-B8FA-B7E6AAB7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E9B-BC97-44D2-BA2C-9AA9566A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2669-6B26-447A-9A7D-33CBD004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15FA-9364-4227-BAA5-33C8E051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92B9-0E64-4A8E-B342-BE895683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B17F-7EFC-48F7-95B5-6A29A04F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75C6-85FE-4BB5-84D3-D7E2F9AC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B628-7642-4922-A77D-33F1E312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2E53-B389-4531-ABE4-58166719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9224-34AF-49DD-8CD7-00A0646A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9A349-9E99-40BB-90BB-2C56E22E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97F18-049D-47BB-8C7C-A90A107D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58A-9FB8-4777-81E4-08C834CB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F395-394A-4CCD-AB48-4FCB059D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67D4-06E0-4846-A337-0525795A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647C5-1F21-4829-86DD-4ADD22A3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60CB-5C17-41D8-AB50-43083AD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9BC35-7F74-4B81-A906-8B99B78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894DC-4B8C-456E-8A8D-8B54039F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65987-BDF7-4B52-A8C6-4F9DE276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BAFE-DA5A-4E5E-8146-CC9D9D5F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BB7EA-B7CA-4B33-8F84-DBCB8017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4F2B3-C88C-43A6-A856-40DE3C7F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9BE-03A2-4A77-940C-8D8C12B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CE2C-98F0-4808-9108-5BB13523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50FF3-A3A5-4BBB-A390-037633C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0392-0A4B-4C66-BCBB-D392B2FB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FB37A-84B5-4BB3-8A92-A3D16A43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4B104-B844-4368-A0A7-EAF12CB3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170B1-239D-426F-94B0-0B051BAF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7862E-491E-40F1-BB91-DDC400E2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08A99-0211-4FC5-B374-6801B9D0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3F576-36B2-437B-9EDF-E196ECFD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659C7-3EF7-4BE7-9A37-B8B34BD8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949-5E70-476F-B776-32C47212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9E876-F841-40D0-AFE4-49050774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FA01A-808D-421C-81E0-32A83A97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69623-806D-4EB3-9BEE-56A476FA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2BE45-BECD-4061-8D7E-605B8230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DF586-78CA-4C10-B09E-66BB98AD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330C7-D8D6-41BD-A109-05101DB0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15C7C-8D9F-47D7-87A8-97025119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07EDA-A77C-4A07-B627-823B5114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5AB2-172F-47B4-A229-5C6D1F2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96A09-B727-45C2-AF82-C756B7DA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A4C-1D77-4025-B1AD-B058EDC3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EF023-DA74-42B3-BD35-A702918A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61F47-010A-4963-9E96-2E6E5F55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BC7A0-88A1-49CC-A9DC-14CD1455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C35D3-CA59-4AF0-BAB0-5235F48F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06178-3DF9-4E49-AF2B-8FE906A2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E1CD6-B7F6-44BC-85CA-9657ED59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3BA2A-9BBD-40A7-8D40-870DFCE2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7CBFF-CC1D-46B4-A2FF-D3F2F2F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6306B-0941-43D0-9756-CB5F9936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75DE-E24C-4AE3-9F45-DD59919E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0C0-13D6-46D6-9060-0B332C7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5022-17AE-41AE-A77D-91A0879C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7FFED-18A8-4F6F-B975-639C09CB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D9DD3-5783-437A-A860-03C6C716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7511D-C129-490A-9392-97C28D5E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4BAC9-EA37-493B-8852-531E4F83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AD913-FEA6-45CB-8BC6-963AF989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7261-4DAB-40E2-8D9A-40447C60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8226-AA4F-456D-9344-2A442A7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E2C24-7432-4786-ACE3-51842408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B86F9-DAB8-4240-8B4B-DAA2BDBB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D5E-AB5F-4AF7-809C-2E01249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D1501-814C-4E86-B1D0-F3E5DBD7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287F4-A890-452C-821F-CF79BE7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9920E-5797-40D5-BA91-D0ED6A99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AC9D-1B2A-4020-A277-A8669C58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A3404-2ABE-4E8C-9D0E-4FED89D4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760FC-201D-43F4-8BDE-CD73BFC5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22F74-DE04-49FC-AA71-59D72F66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717A9-6749-4E6F-8263-123A60BD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79FBE-0CD5-4134-A430-EE75872B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FFA40-3A43-42CF-8399-3448547A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232A-FDD7-49FC-A0CB-62DD1589899B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8CF3-0C8D-4488-AC60-D0B8168D055A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5455-D291-4316-9851-C38363A71A13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3111-147E-4101-BBBB-71AEC4897DA6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A202-302B-42DA-8870-C7F6EA474B15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7A64-2FFE-4B47-BDB1-96D96F07D23D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A57E-1FEC-4D5C-9A0C-57386E162448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1334-B973-4609-938A-B620865A0DE4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3122-3C09-45FA-8C80-D560208DA1CE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2F37-49E2-4161-A7FD-12F56489F6DE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A848-EE30-4523-ACEB-C350088F7CA6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1337-C7DB-48A0-9D9E-132F5B92FAC6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26A0-04B7-4A0E-BC74-3A2FF93A3A89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C435-CC19-4955-97E8-D65B655B64D2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C399-F5BD-40E2-BF8D-1C5981838524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2593-6667-438A-BFB5-E2A65A8F732D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984D-03B2-45D2-B572-56979F75E2A6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38F5-1CDA-4F0B-810C-C8812C282C08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A31B-69B8-488A-BEDC-20AB72072503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C529-F55B-40A1-88B0-51CE1343B4AA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1763-649E-400D-8711-DE2E0A882B38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1C95-B000-4968-A162-1F767E8EFF9D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6B3B-B63D-4AB8-9AC2-16DC4DF5351C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E029-1E1E-41E9-8A5E-CA90B04568E4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6545-BDE0-4737-BADD-1DF2D8BC80BB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2FB0-BDA4-4466-818E-34D7CAD5217B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0a0a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B7F6-59B6-455B-A8BA-679593AD8DA4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9938-C612-4537-B159-57E21C12713D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19B2-4898-457C-B537-A6F94AB7A99F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9327-C9C3-4DD9-821F-CB901AF2435D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C0A8-30B3-4582-9896-B2C46308143F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F01-1C20-4557-8739-B52E5EF57622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9f87b7"/>
              </a:gs>
              <a:gs pos="100000">
                <a:srgbClr val="6a2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0a0a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f87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6016-25F2-41E8-AEAB-B0EA218BE2FB}" type="datetime">
              <a:rPr b="0" lang="en-US" sz="1200" spc="-1" strike="noStrike">
                <a:solidFill>
                  <a:srgbClr val="9f87b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a2d9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8D90-9159-4255-B1F7-5716EF4F5AE0}" type="slidenum">
              <a:rPr b="0" lang="en-US" sz="1200" spc="-1" strike="noStrike">
                <a:solidFill>
                  <a:srgbClr val="6a2d9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0a"/>
                </a:solidFill>
                <a:latin typeface="Lucida Grande CY"/>
              </a:rPr>
              <a:t>Module 14:</a:t>
            </a:r>
            <a:endParaRPr b="0" lang="en-US" sz="44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 CY"/>
              </a:rPr>
              <a:t>LECTURE 14.1: PSYCHOLOGICAL SUPPORT FOR SURVIVORS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a"/>
                </a:solidFill>
                <a:latin typeface="Lucida Grande CY"/>
              </a:rPr>
              <a:t>Special considerations for all survivors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779040" y="1828440"/>
            <a:ext cx="758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Involuntary orgasm can occur – often makes survivor feel guilty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a0a0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Reassure survivor that it is physiological reaction and was beyond her/his control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In most cultures, there is tendency to blame the survivor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0a0a0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It is important to point out that rape is </a:t>
            </a:r>
            <a:r>
              <a:rPr b="1" lang="en-US" sz="2800" spc="-1" strike="noStrike">
                <a:solidFill>
                  <a:srgbClr val="0a0a0a"/>
                </a:solidFill>
                <a:latin typeface="Lucida Grande CY"/>
              </a:rPr>
              <a:t>always the fault of the perpetrator and never the fault of the survivor</a:t>
            </a: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. She did not deserve it nor was it caused by her behaviour, dress, etc.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0E45-030B-44E5-AD04-864318387B0E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Special considerations for men 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a0a0a"/>
                </a:solidFill>
                <a:latin typeface="Lucida Grande CY"/>
              </a:rPr>
              <a:t>Are even less likely to report the incident than women</a:t>
            </a:r>
            <a:endParaRPr b="0" lang="en-US" sz="30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a0a0a"/>
                </a:solidFill>
                <a:latin typeface="Lucida Grande CY"/>
              </a:rPr>
              <a:t>Physical effects may differ, but psychological effects are similar</a:t>
            </a:r>
            <a:endParaRPr b="0" lang="en-US" sz="30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a0a0a"/>
                </a:solidFill>
                <a:latin typeface="Lucida Grande CY"/>
              </a:rPr>
              <a:t>If raped anally, pressure on the prostate may have caused an erection (and orgasm) – reassure him this is an uncontrollable physiological reaction</a:t>
            </a:r>
            <a:endParaRPr b="0" lang="en-US" sz="30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2D7B-107F-4659-AFBC-1EAF3A248E28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a"/>
                </a:solidFill>
                <a:latin typeface="Lucida Grande CY"/>
              </a:rPr>
              <a:t>Special considerations - pregnancy 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a0a0a"/>
                </a:solidFill>
                <a:latin typeface="Lucida Grande CY"/>
              </a:rPr>
              <a:t>Pregnancy as a result of rape:</a:t>
            </a:r>
            <a:endParaRPr b="0" lang="en-US" sz="3300" spc="-1" strike="noStrike">
              <a:solidFill>
                <a:srgbClr val="0a0a0a"/>
              </a:solidFill>
              <a:latin typeface="Trebuchet MS"/>
            </a:endParaRPr>
          </a:p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a0a0a"/>
                </a:solidFill>
                <a:latin typeface="Lucida Grande CY"/>
              </a:rPr>
              <a:t>Support survivor to make an informed decision, not influenced by the individual beliefs of the provider</a:t>
            </a:r>
            <a:endParaRPr b="0" lang="en-US" sz="3300" spc="-1" strike="noStrike">
              <a:solidFill>
                <a:srgbClr val="0a0a0a"/>
              </a:solidFill>
              <a:latin typeface="Trebuchet MS"/>
            </a:endParaRPr>
          </a:p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a0a0a"/>
                </a:solidFill>
                <a:latin typeface="Lucida Grande CY"/>
              </a:rPr>
              <a:t>Options: keeping the child, adoption, abortion (where safe and legal)</a:t>
            </a:r>
            <a:endParaRPr b="0" lang="en-US" sz="3300" spc="-1" strike="noStrike">
              <a:solidFill>
                <a:srgbClr val="0a0a0a"/>
              </a:solidFill>
              <a:latin typeface="Trebuchet MS"/>
            </a:endParaRPr>
          </a:p>
          <a:p>
            <a:pPr marL="268200" indent="-268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C21-8AD7-4764-B505-E5348618F839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Consider: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Lucida Grande CY"/>
              </a:rPr>
              <a:t>Risks of unsafe abortion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a0a"/>
                </a:solidFill>
                <a:latin typeface="Lucida Grande CY"/>
              </a:rPr>
              <a:t>Access to post-abortion care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Lucida Grande CY"/>
              </a:rPr>
              <a:t>Child abandonment, homicide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a0a"/>
                </a:solidFill>
                <a:latin typeface="Lucida Grande CY"/>
              </a:rPr>
              <a:t>Support mother (and family)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a0a"/>
                </a:solidFill>
                <a:latin typeface="Lucida Grande CY"/>
              </a:rPr>
              <a:t>Consider foster care or adoption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448A-5BD2-4049-AFD1-931218FDB4E8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HIV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Lucida Grande CY"/>
              </a:rPr>
              <a:t>Important to address a survivor’s concerns about the possibility of becoming infected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Lucida Grande CY"/>
              </a:rPr>
              <a:t>Can refer a survivor to an HIV/AIDS counselling service (VCT), if available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187B-DB72-486C-BE8A-9E6BF3592645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828440" y="3276360"/>
            <a:ext cx="6762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0a0a"/>
                </a:solidFill>
                <a:latin typeface="Lucida Grande CY"/>
              </a:rPr>
              <a:t>Module 14</a:t>
            </a:r>
            <a:endParaRPr b="0" lang="en-US" sz="44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380520" y="5333760"/>
            <a:ext cx="8458200" cy="8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a"/>
                </a:solidFill>
                <a:latin typeface="Lucida Grande CY"/>
              </a:rPr>
              <a:t>LECTURE 14.3: WHAT FOLLOW-UP IS NECESSARY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Follow-up care</a:t>
            </a:r>
            <a:r>
              <a:rPr b="1" lang="en-US" sz="4000" spc="-1" strike="noStrike">
                <a:solidFill>
                  <a:srgbClr val="0a0a0a"/>
                </a:solidFill>
                <a:latin typeface="Lucida Grande CY"/>
              </a:rPr>
              <a:t> </a:t>
            </a:r>
            <a:endParaRPr b="0" lang="en-US" sz="40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It is possible that the survivor will not or cannot return for follow-up. 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Provide maximum input during the first visit, as it maybe the only visit. 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8DF8-7B39-4D58-A4E7-7E75D5F94416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79040" y="3048120"/>
            <a:ext cx="75834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a0a0a"/>
                </a:solidFill>
                <a:latin typeface="Lucida Grande CY"/>
              </a:rPr>
              <a:t>Follow-up Care For Those TAKING PEP</a:t>
            </a:r>
            <a:endParaRPr b="0" lang="en-US" sz="7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77D7-2181-4D13-B5E7-C05EE5AAB901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0a0a"/>
                </a:solidFill>
                <a:latin typeface="Lucida Grande CY"/>
              </a:rPr>
              <a:t>Follow up for those TAKING PEP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9920" indent="-259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a"/>
                </a:solidFill>
                <a:latin typeface="Lucida Grande CY"/>
              </a:rPr>
              <a:t>1 week follow-up visit: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Evaluate for side effects and adherence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Provide additional 3 week supply of PEP (if not given at 1</a:t>
            </a:r>
            <a:r>
              <a:rPr b="0" lang="en-US" sz="2800" spc="-1" strike="noStrike" baseline="30000">
                <a:solidFill>
                  <a:srgbClr val="0a0a0a"/>
                </a:solidFill>
                <a:latin typeface="Lucida Grande CY"/>
              </a:rPr>
              <a:t>st</a:t>
            </a: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 visit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Check survivor has taken full course of treatment for STIs (if presumptive treatment not given, evaluate and treat if appropriate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Evaluate mental and emotional status (refer or treat as needed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FE61-D7B5-44EB-9450-2AD28D4E74CD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0a0a"/>
                </a:solidFill>
                <a:latin typeface="Lucida Grande CY"/>
              </a:rPr>
              <a:t>Follow up for those TAKING PEP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0a"/>
                </a:solidFill>
                <a:latin typeface="Lucida Grande CY"/>
              </a:rPr>
              <a:t>6 week follow-up visit: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Evaluate for pregnancy and provide counselling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If no presumptive treatment given for STIs, treat as appropriate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Provide advice on VCT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Evaluate mental and emotional status (refer or treat as needed).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218C-4E14-4F7F-ACFA-9D1A18561711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Psychological support* 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1400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Each survivor will experience and cope with the trauma of rape within her or his own culture and society. 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1400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Any intervention must be tailored to the situation.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1400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Referral for social and psychological support services is an </a:t>
            </a:r>
            <a:r>
              <a:rPr b="0" i="1" lang="en-US" sz="2800" spc="-1" strike="noStrike">
                <a:solidFill>
                  <a:srgbClr val="0a0a0a"/>
                </a:solidFill>
                <a:latin typeface="Lucida Grande CY"/>
              </a:rPr>
              <a:t>essential component</a:t>
            </a: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 of care for rape survivors.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228600" y="6248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 CY"/>
              </a:rPr>
              <a:t>*from the UNHCR-UNFPA Clinical Management of Rape Survivor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4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90EA-2404-445D-8681-0AA05D80A824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0a0a"/>
                </a:solidFill>
                <a:latin typeface="Lucida Grande CY"/>
              </a:rPr>
              <a:t>Follow up for those TAKING PEP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0a"/>
                </a:solidFill>
                <a:latin typeface="Lucida Grande CY"/>
              </a:rPr>
              <a:t>3 month follow-up visit: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Evaluate for STIs (and treat if needed)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Test for syphilis if prophylaxis not given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Assess pregnancy status (if indicated)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Provide advice on follow-up VCT for those who had a negative test during the 1</a:t>
            </a:r>
            <a:r>
              <a:rPr b="0" lang="en-US" sz="2400" spc="-1" strike="noStrike" baseline="30000">
                <a:solidFill>
                  <a:srgbClr val="0a0a0a"/>
                </a:solidFill>
                <a:latin typeface="Lucida Grande CY"/>
              </a:rPr>
              <a:t>st</a:t>
            </a: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 week.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Offer advice on VCT who were not tested before.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Evaluate mental and emotional status (refer and treat as needed)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55AD-7130-450A-A270-1EB708DD4F61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8340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a0a0a"/>
                </a:solidFill>
                <a:latin typeface="Lucida Grande CY"/>
              </a:rPr>
              <a:t>Follow-up Care For Those</a:t>
            </a:r>
            <a:br>
              <a:rPr sz="7200"/>
            </a:br>
            <a:r>
              <a:rPr b="1" lang="en-US" sz="7200" spc="-1" strike="noStrike">
                <a:solidFill>
                  <a:srgbClr val="0a0a0a"/>
                </a:solidFill>
                <a:latin typeface="Lucida Grande CY"/>
              </a:rPr>
              <a:t>NOT </a:t>
            </a:r>
            <a:br>
              <a:rPr sz="7200"/>
            </a:br>
            <a:r>
              <a:rPr b="1" lang="en-US" sz="7200" spc="-1" strike="noStrike">
                <a:solidFill>
                  <a:srgbClr val="0a0a0a"/>
                </a:solidFill>
                <a:latin typeface="Lucida Grande CY"/>
              </a:rPr>
              <a:t>TAKING </a:t>
            </a:r>
            <a:br>
              <a:rPr sz="7200"/>
            </a:br>
            <a:r>
              <a:rPr b="1" lang="en-US" sz="7200" spc="-1" strike="noStrike">
                <a:solidFill>
                  <a:srgbClr val="0a0a0a"/>
                </a:solidFill>
                <a:latin typeface="Lucida Grande CY"/>
              </a:rPr>
              <a:t>PEP</a:t>
            </a:r>
            <a:endParaRPr b="0" lang="en-US" sz="7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DCA3-6B71-48C7-8802-2B35B7FBAACA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a"/>
                </a:solidFill>
                <a:latin typeface="Lucida Grande CY"/>
              </a:rPr>
              <a:t>Follow up care for those NOT taking PEP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9920" indent="-259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a"/>
                </a:solidFill>
                <a:latin typeface="Lucida Grande CY"/>
              </a:rPr>
              <a:t>2 week follow-up visit: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Evaluate for pregnancy and provide counselling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Check survivor has taken full course of treatment for STIs (if no presumptive therapy given, treat as appropriate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Offer advice on VCT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9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Evaluate mental and emotional status (refer or treat as needed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59920" indent="-259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7A99-CB6A-486E-937D-76740DA399BF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a"/>
                </a:solidFill>
                <a:latin typeface="Lucida Grande CY"/>
              </a:rPr>
              <a:t>Follow up care for those NOT taking PEP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a"/>
                </a:solidFill>
                <a:latin typeface="Lucida Grande CY"/>
              </a:rPr>
              <a:t>3 month follow-up visit: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71080" indent="-27108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Evaluate for STIs (and treat if needed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71080" indent="-27108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Test for syphilis, if prophylaxis not given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71080" indent="-27108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Assess pregnancy status (if indicated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71080" indent="-27108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Offer advice on VCT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71080" indent="-27108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Evaluate mental and emotional status (refer and treat as needed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71080" indent="-27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75AA-EB6C-4137-A1A3-9353D0A1268E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Referrals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2800" indent="-2628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Lucida Grande CY"/>
              </a:rPr>
              <a:t>Any services a survivor needs that your health facility cannot provide (ex. evaluation for fistula, surgery, fractures, psychiatric care, etc.)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  <a:p>
            <a:pPr marL="262800" indent="-2628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Lucida Grande CY"/>
              </a:rPr>
              <a:t>Any treatment your facility does not have (PEP, VCT, etc.)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  <a:p>
            <a:pPr marL="262800" indent="-2628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a0a"/>
                </a:solidFill>
                <a:latin typeface="Lucida Grande CY"/>
              </a:rPr>
              <a:t>Support services</a:t>
            </a:r>
            <a:endParaRPr b="0" lang="en-US" sz="36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2E7A-65A8-4C34-99B7-954C3A07CA97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a0a0a"/>
                </a:solidFill>
                <a:latin typeface="Trebuchet MS"/>
              </a:rPr>
              <a:t>The End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C14F-F257-4B01-9C00-32A155F6DDB2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8340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a"/>
                </a:solidFill>
                <a:latin typeface="Lucida Grande CY"/>
              </a:rPr>
              <a:t>What are some possible psychological after effects a survivor could experience?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Feelings of guilt and shame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Uncontrollable emotions (ex. fear, anger, anxiety)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Nightmares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Suicidal thoughts or attempts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Numbness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Substance abuse 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Social withdrawal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Sexual dysfunction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0a"/>
                </a:solidFill>
                <a:latin typeface="Lucida Grande CY"/>
              </a:rPr>
              <a:t>Medically unexplained somatic complaints</a:t>
            </a: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304920" y="63244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 CY"/>
              </a:rPr>
              <a:t>From page 27 of the WHO/UNHCR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4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38FE-061D-4232-A763-425BD9A32E8F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a"/>
                </a:solidFill>
                <a:latin typeface="Lucida Grande CY"/>
              </a:rPr>
              <a:t>How can we help survivors experiencing these after effects*?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2800" indent="-262800">
              <a:lnSpc>
                <a:spcPct val="100000"/>
              </a:lnSpc>
              <a:spcBef>
                <a:spcPts val="1800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a0a"/>
                </a:solidFill>
                <a:latin typeface="Lucida Grande CY"/>
              </a:rPr>
              <a:t>Advise on psychological, emotional, social and physical problems she may experience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marL="262800" indent="-262800">
              <a:lnSpc>
                <a:spcPct val="100000"/>
              </a:lnSpc>
              <a:spcBef>
                <a:spcPts val="1800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a0a"/>
                </a:solidFill>
                <a:latin typeface="Lucida Grande CY"/>
              </a:rPr>
              <a:t>Explain that it is common to experience strong negative emotions or numbness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marL="262800" indent="-262800">
              <a:lnSpc>
                <a:spcPct val="100000"/>
              </a:lnSpc>
              <a:spcBef>
                <a:spcPts val="1800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a0a"/>
                </a:solidFill>
                <a:latin typeface="Lucida Grande CY"/>
              </a:rPr>
              <a:t>Refer for professional support if symptoms are disabling and do not disappear over time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marL="262800" indent="-262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320400" y="6326280"/>
            <a:ext cx="8125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 CY"/>
              </a:rPr>
              <a:t>*from the UNHCR-UNFPA Clinical Management of Rape Survivor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4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0611-DC52-4EBE-99CA-39F9F07C28E5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a"/>
                </a:solidFill>
                <a:latin typeface="Lucida Grande CY"/>
              </a:rPr>
              <a:t>How can we help survivors experiencing these after effects?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a0a"/>
                </a:solidFill>
                <a:latin typeface="Lucida Grande CY"/>
              </a:rPr>
              <a:t>Usually best supported without medications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0a0a"/>
                </a:solidFill>
                <a:latin typeface="Lucida Grande CY"/>
              </a:rPr>
              <a:t>“</a:t>
            </a:r>
            <a:r>
              <a:rPr b="0" lang="en-US" sz="3200" spc="-1" strike="noStrike">
                <a:solidFill>
                  <a:srgbClr val="0a0a0a"/>
                </a:solidFill>
                <a:latin typeface="Lucida Grande CY"/>
              </a:rPr>
              <a:t>Psychological first aid” (PFA) is basic response that can be done by health care providers as well as other personnel caring for survivors.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2110-7289-4991-9DBA-E93732154A92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Psychological First Aid (PFA)*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0a0a"/>
                </a:solidFill>
                <a:latin typeface="Lucida Grande CY"/>
              </a:rPr>
              <a:t>Is “…a humane, supportive response to a fellow human being who is suffering and who may need support.”</a:t>
            </a:r>
            <a:endParaRPr b="0" lang="en-US" sz="27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a0a0a"/>
                </a:solidFill>
                <a:latin typeface="Lucida Grande CY"/>
              </a:rPr>
              <a:t>It does not necessarily involve a discussion of the event causing the distress.</a:t>
            </a:r>
            <a:endParaRPr b="0" lang="en-US" sz="27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a0a0a"/>
                </a:solidFill>
                <a:latin typeface="Lucida Grande CY"/>
              </a:rPr>
              <a:t>*from the IASC Guidelines on Mental Health and Psychosocial Support in Emergency Settings.</a:t>
            </a:r>
            <a:endParaRPr b="0" lang="en-US" sz="17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8824-E07E-4998-9FDA-99164A6948B4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Psychological First Aid (PFA)*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0a0a"/>
                </a:solidFill>
                <a:latin typeface="Lucida Grande CY"/>
              </a:rPr>
              <a:t>Do’s</a:t>
            </a:r>
            <a:endParaRPr b="0" lang="en-US" sz="21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a0a0a"/>
                </a:solidFill>
                <a:latin typeface="Lucida Grande CY"/>
              </a:rPr>
              <a:t>Protect the survivor from further harm</a:t>
            </a:r>
            <a:endParaRPr b="0" lang="en-US" sz="21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a0a0a"/>
                </a:solidFill>
                <a:latin typeface="Lucida Grande CY"/>
              </a:rPr>
              <a:t>Provide opportunity for survivor to talk about the events, but without pressure</a:t>
            </a:r>
            <a:endParaRPr b="0" lang="en-US" sz="21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a0a0a"/>
                </a:solidFill>
                <a:latin typeface="Lucida Grande CY"/>
              </a:rPr>
              <a:t>Respect the wish not to talk and avoid pushing her him to talk about the event</a:t>
            </a:r>
            <a:endParaRPr b="0" lang="en-US" sz="21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a0a0a"/>
                </a:solidFill>
                <a:latin typeface="Lucida Grande CY"/>
              </a:rPr>
              <a:t>Listening patiently and in a non-judgmental manner</a:t>
            </a:r>
            <a:endParaRPr b="0" lang="en-US" sz="21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a0a0a"/>
                </a:solidFill>
                <a:latin typeface="Lucida Grande CY"/>
              </a:rPr>
              <a:t>Conveying genuine compassion</a:t>
            </a:r>
            <a:endParaRPr b="0" lang="en-US" sz="21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a0a0a"/>
                </a:solidFill>
                <a:latin typeface="Lucida Grande CY"/>
              </a:rPr>
              <a:t>*from the IASC Guidelines on Mental Health and Psychosocial Support in Emergency Settings.</a:t>
            </a:r>
            <a:endParaRPr b="0" lang="en-US" sz="13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65FC-F493-4DCD-8C70-19A3C56FF290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PFA continued*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7240" indent="-23724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a"/>
                </a:solidFill>
                <a:latin typeface="Lucida Grande CY"/>
              </a:rPr>
              <a:t>Do’s (continued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37240" indent="-23724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Lucida Grande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Identifying basic practical needs and ensuring they are met (ex. providing a survivor with new clothes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37240" indent="-23724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Lucida Grande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Asking for a survivor’s concerns and addressing them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37240" indent="-23724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Lucida Grande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Encouraging participation in normal daily routines (if possible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37240" indent="-237240">
              <a:lnSpc>
                <a:spcPct val="70000"/>
              </a:lnSpc>
              <a:spcBef>
                <a:spcPts val="2001"/>
              </a:spcBef>
              <a:buClr>
                <a:srgbClr val="0a0a0a"/>
              </a:buClr>
              <a:buFont typeface="Lucida Grande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0a"/>
                </a:solidFill>
                <a:latin typeface="Lucida Grande CY"/>
              </a:rPr>
              <a:t>Encouraging positive ways of coping (ex. culturally appropriate relaxation methods)</a:t>
            </a:r>
            <a:endParaRPr b="0" lang="en-US" sz="2800" spc="-1" strike="noStrike">
              <a:solidFill>
                <a:srgbClr val="0a0a0a"/>
              </a:solidFill>
              <a:latin typeface="Trebuchet MS"/>
            </a:endParaRPr>
          </a:p>
          <a:p>
            <a:pPr marL="237240" indent="-23724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0a"/>
                </a:solidFill>
                <a:latin typeface="Lucida Grande CY"/>
              </a:rPr>
              <a:t>	</a:t>
            </a:r>
            <a:r>
              <a:rPr b="0" lang="en-US" sz="2000" spc="-1" strike="noStrike">
                <a:solidFill>
                  <a:srgbClr val="0a0a0a"/>
                </a:solidFill>
                <a:latin typeface="Lucida Grande CY"/>
              </a:rPr>
              <a:t>From the IASC Guidelines on Mental Health and Psychosocial Support in Emergency Settings.</a:t>
            </a:r>
            <a:endParaRPr b="0" lang="en-US" sz="2000" spc="-1" strike="noStrike">
              <a:solidFill>
                <a:srgbClr val="0a0a0a"/>
              </a:solidFill>
              <a:latin typeface="Trebuchet MS"/>
            </a:endParaRPr>
          </a:p>
          <a:p>
            <a:pPr marL="237240" indent="-23724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a0a0a"/>
                </a:solidFill>
                <a:latin typeface="Lucida Grande CY"/>
              </a:rPr>
              <a:t>*</a:t>
            </a:r>
            <a:endParaRPr b="0" lang="en-US" sz="1700" spc="-1" strike="noStrike">
              <a:solidFill>
                <a:srgbClr val="0a0a0a"/>
              </a:solidFill>
              <a:latin typeface="Trebuchet MS"/>
            </a:endParaRPr>
          </a:p>
          <a:p>
            <a:pPr marL="237240" indent="-2372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BBC-F59A-4918-BEFF-5FE70E66A959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a0a0a"/>
                </a:solidFill>
                <a:latin typeface="Lucida Grande CY"/>
              </a:rPr>
              <a:t>PFA continued*</a:t>
            </a:r>
            <a:endParaRPr b="0" lang="en-US" sz="38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779040" y="1371240"/>
            <a:ext cx="758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a"/>
                </a:solidFill>
                <a:latin typeface="Lucida Grande CY"/>
              </a:rPr>
              <a:t>Don’ts</a:t>
            </a:r>
            <a:endParaRPr b="0" lang="en-US" sz="32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a0a0a"/>
                </a:solidFill>
                <a:latin typeface="Lucida Grande CY"/>
              </a:rPr>
              <a:t>Discouraging negative ways of coping (ex. substance abuse)</a:t>
            </a:r>
            <a:endParaRPr b="0" lang="en-US" sz="35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a0a0a"/>
                </a:solidFill>
                <a:latin typeface="Lucida Grande CY"/>
              </a:rPr>
              <a:t>Encourage them to confide in someone they trust </a:t>
            </a:r>
            <a:endParaRPr b="0" lang="en-US" sz="35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a0a0a"/>
                </a:solidFill>
                <a:latin typeface="Lucida Grande CY"/>
              </a:rPr>
              <a:t>Assure the survivor that she can return at any time to the health facility for any questions or health problems</a:t>
            </a:r>
            <a:endParaRPr b="0" lang="en-US" sz="35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buClr>
                <a:srgbClr val="0a0a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0a0a"/>
                </a:solidFill>
                <a:latin typeface="Lucida Grande CY"/>
              </a:rPr>
              <a:t>*from the IASC Guidelines on Mental Health and Psychosocial Support in Emergency Settings.</a:t>
            </a:r>
            <a:endParaRPr b="0" lang="en-US" sz="1600" spc="-1" strike="noStrike">
              <a:solidFill>
                <a:srgbClr val="0a0a0a"/>
              </a:solidFill>
              <a:latin typeface="Trebuchet MS"/>
            </a:endParaRPr>
          </a:p>
          <a:p>
            <a:pPr marL="282600" indent="-28260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a0a0a"/>
              </a:solidFill>
              <a:latin typeface="Trebuchet MS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8404200" y="219240"/>
            <a:ext cx="493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1873-520C-4059-AB7B-68D690C6A943}" type="slidenum">
              <a:rPr b="0" lang="en-US" sz="1200" spc="-1" strike="noStrike">
                <a:solidFill>
                  <a:srgbClr val="6a2d9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9:01:41Z</dcterms:created>
  <dc:creator>mmarsh</dc:creator>
  <dc:description/>
  <dc:language>en-US</dc:language>
  <cp:lastModifiedBy>UNICEF</cp:lastModifiedBy>
  <dcterms:modified xsi:type="dcterms:W3CDTF">2010-10-21T18:33:21Z</dcterms:modified>
  <cp:revision>9</cp:revision>
  <dc:subject/>
  <dc:title>Module 14:</dc:title>
</cp:coreProperties>
</file>